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C72-E968-427F-A483-BDADBAB6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6A2-7F3F-44D1-9702-728D90B8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C6A-B772-48FD-BB2E-94632568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DD0-9D35-468D-AE15-068F77D8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E460-03BC-4C59-ACFB-04F0D70B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3527-9887-4083-A305-A0D81507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69E2-CE07-4F22-BE54-DB491CDC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9637-FC2B-40A2-84D5-694B79AD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585F-90CD-4B03-B944-00FBB04B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596F-EB06-4539-BF8C-6B61A71E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4004-A3E6-4047-B494-E946A938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564-4686-4078-9FAD-2AC3FDAD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CCC7-B316-4DC4-AAD6-2EB5D0C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30D1-3EBB-4F51-BEE3-358F2BB0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8F16-8863-4C7D-9113-C3B07EC3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85B1-1F85-4DE5-9259-E4485D44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AA6F-7F9D-4709-86D7-DA13F717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CCD21-8C34-429E-B2DA-74C1C04C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265D-80DE-4E51-B4E6-78BF9DBA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961C0-F4F8-4A65-851F-F6630810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7DB0-36E6-4567-8CB0-F8F38D7D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E752-9ED2-4ADA-84B8-F66BE0F9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C66-7174-498B-9F1C-3CBEB522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58091-FD23-4506-94D3-45A1E432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56FB-A8F4-4A63-BA2A-A8E9E19D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EC89-FB76-4511-B0AB-44CC6133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30F9-24E8-4103-BFC6-3F6D6D2A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7D25-6EF6-4064-A46B-7F174223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B94A-99D2-43BB-9130-9E53BAE2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E181F-802F-4DCF-B3FF-3F5E6FA0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D1F28-3CB7-4E07-A135-33A32ACA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97468-A060-4FAD-8378-B650A5DD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E3D10-9EBA-4F78-81E4-3C8C3BBB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F99-75F2-4AA4-9A21-183FAF39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60D3A-6263-4312-816F-C33D65DF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7D761-730B-4E8D-937D-5FD09808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221CF-62DD-4BCC-BFEA-8B1A61CA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98FF2-D467-4622-9DF6-F1B12BD5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B13E3-6805-499D-A2B5-FA3CBA24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8A0FA-65AA-4612-ABF3-D8C22D9F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AF5B-ED38-4389-97AE-C5674670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4DDAB-43FE-4070-8F49-23DFE313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80A6-8445-477D-8CD5-47067ECF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43015-50F0-49A7-8894-C29F12C1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147-DD6A-4A86-9709-4C2448DC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237CC-9E8C-4B05-B0F7-5ECE113F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4067D-EE76-4CEE-835D-19B9A113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692ED-F532-486A-AB43-A6F939F9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1460F-87B8-4EAF-9955-81D9E19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1A2A6-0C4D-43C9-B5B1-472F7188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0341-2812-44B4-A1C0-C2FEE271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6CB37-4473-42A2-8E6C-CC92588B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14BF4-67F4-4E2A-9BB2-1677474C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57991-B642-45CF-8494-0CBB8194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20F6B-7142-4047-B032-AA206127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3A5-1F47-4957-83F5-10089A01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10CB1-7038-40D4-9288-E4D24E8A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72C-E8E4-473D-BD6D-B22DA5F2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D47-D04E-4440-9A8D-963821EA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10C-C87F-41FC-AD18-38CD54CE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1113-194E-4C56-B8BF-1C259E5AC0B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CFFC-C4AA-4206-8976-86135E4DB84C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5799-E617-4AF1-A6F2-D5750C23E61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2E7E-E81E-43B4-9A18-66850D59595C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3CD5-F81A-4F93-B294-6EEB9174F7B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187800" y="2597040"/>
            <a:ext cx="5565600" cy="811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naging Aggregate Demand: Fiscal Polic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228600" y="1609200"/>
            <a:ext cx="7848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v’t has played passive role; both G &amp; T fix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oking at how gov’t uses spending and taxes to effect demand-side of econom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XED TAXES: taxes that don’t vary with GDP (property tax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RIABLE TAXES: taxes that do vary with GDP (income tax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52280" y="1609200"/>
            <a:ext cx="7848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*Certain types of tax cuts are expected to increase 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an be used to reward working, saving, and investing mor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sponse to tax cuts-increase in availability in labor and capital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6" name="Group 35"/>
          <p:cNvGrpSpPr/>
          <p:nvPr/>
        </p:nvGrpSpPr>
        <p:grpSpPr>
          <a:xfrm>
            <a:off x="1066320" y="4191120"/>
            <a:ext cx="2592720" cy="2363760"/>
            <a:chOff x="1066320" y="4191120"/>
            <a:chExt cx="2592720" cy="2363760"/>
          </a:xfrm>
        </p:grpSpPr>
        <p:grpSp>
          <p:nvGrpSpPr>
            <p:cNvPr id="227" name="Group 15"/>
            <p:cNvGrpSpPr/>
            <p:nvPr/>
          </p:nvGrpSpPr>
          <p:grpSpPr>
            <a:xfrm>
              <a:off x="1066680" y="4191120"/>
              <a:ext cx="2592360" cy="2363760"/>
              <a:chOff x="1066680" y="4191120"/>
              <a:chExt cx="2592360" cy="2363760"/>
            </a:xfrm>
          </p:grpSpPr>
          <p:sp>
            <p:nvSpPr>
              <p:cNvPr id="228" name="Straight Connector 12"/>
              <p:cNvSpPr/>
              <p:nvPr/>
            </p:nvSpPr>
            <p:spPr>
              <a:xfrm flipH="1">
                <a:off x="1066680" y="4191120"/>
                <a:ext cx="1440" cy="236232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4"/>
              <p:cNvSpPr/>
              <p:nvPr/>
            </p:nvSpPr>
            <p:spPr>
              <a:xfrm>
                <a:off x="1068120" y="6553440"/>
                <a:ext cx="2590920" cy="144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6"/>
            <p:cNvGrpSpPr/>
            <p:nvPr/>
          </p:nvGrpSpPr>
          <p:grpSpPr>
            <a:xfrm>
              <a:off x="1523160" y="4343400"/>
              <a:ext cx="1524600" cy="1905840"/>
              <a:chOff x="1523160" y="4343400"/>
              <a:chExt cx="1524600" cy="1905840"/>
            </a:xfrm>
          </p:grpSpPr>
          <p:sp>
            <p:nvSpPr>
              <p:cNvPr id="231" name="Straight Connector 17"/>
              <p:cNvSpPr/>
              <p:nvPr/>
            </p:nvSpPr>
            <p:spPr>
              <a:xfrm>
                <a:off x="1523160" y="4343400"/>
                <a:ext cx="1524600" cy="190584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Straight Connector 22"/>
              <p:cNvSpPr/>
              <p:nvPr/>
            </p:nvSpPr>
            <p:spPr>
              <a:xfrm flipH="1">
                <a:off x="1523880" y="4419360"/>
                <a:ext cx="1448640" cy="182988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Oval 27"/>
            <p:cNvSpPr/>
            <p:nvPr/>
          </p:nvSpPr>
          <p:spPr>
            <a:xfrm>
              <a:off x="2209680" y="5181840"/>
              <a:ext cx="152280" cy="152280"/>
            </a:xfrm>
            <a:prstGeom prst="ellipse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traight Connector 31"/>
            <p:cNvSpPr/>
            <p:nvPr/>
          </p:nvSpPr>
          <p:spPr>
            <a:xfrm flipH="1">
              <a:off x="2286000" y="5335560"/>
              <a:ext cx="1440" cy="1219320"/>
            </a:xfrm>
            <a:prstGeom prst="line">
              <a:avLst/>
            </a:prstGeom>
            <a:ln w="11520">
              <a:solidFill>
                <a:srgbClr val="b83d68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traight Connector 32"/>
            <p:cNvSpPr/>
            <p:nvPr/>
          </p:nvSpPr>
          <p:spPr>
            <a:xfrm flipH="1" flipV="1">
              <a:off x="1066320" y="5257800"/>
              <a:ext cx="1143000" cy="1440"/>
            </a:xfrm>
            <a:prstGeom prst="line">
              <a:avLst/>
            </a:prstGeom>
            <a:ln w="11520">
              <a:solidFill>
                <a:srgbClr val="b83d68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Straight Connector 37"/>
          <p:cNvSpPr/>
          <p:nvPr/>
        </p:nvSpPr>
        <p:spPr>
          <a:xfrm flipH="1">
            <a:off x="2057400" y="4648320"/>
            <a:ext cx="1295280" cy="167616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8"/>
          <p:cNvSpPr/>
          <p:nvPr/>
        </p:nvSpPr>
        <p:spPr>
          <a:xfrm>
            <a:off x="2514600" y="5562720"/>
            <a:ext cx="152280" cy="152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40"/>
          <p:cNvSpPr/>
          <p:nvPr/>
        </p:nvSpPr>
        <p:spPr>
          <a:xfrm flipH="1" flipV="1">
            <a:off x="1066680" y="5638320"/>
            <a:ext cx="1447920" cy="1800"/>
          </a:xfrm>
          <a:prstGeom prst="line">
            <a:avLst/>
          </a:prstGeom>
          <a:ln w="11520">
            <a:solidFill>
              <a:srgbClr val="b83d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42"/>
          <p:cNvSpPr/>
          <p:nvPr/>
        </p:nvSpPr>
        <p:spPr>
          <a:xfrm flipH="1">
            <a:off x="2588760" y="5716440"/>
            <a:ext cx="3240" cy="838440"/>
          </a:xfrm>
          <a:prstGeom prst="line">
            <a:avLst/>
          </a:prstGeom>
          <a:ln w="11520">
            <a:solidFill>
              <a:srgbClr val="b83d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3"/>
          <p:cNvSpPr/>
          <p:nvPr/>
        </p:nvSpPr>
        <p:spPr>
          <a:xfrm>
            <a:off x="297180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4"/>
          <p:cNvSpPr/>
          <p:nvPr/>
        </p:nvSpPr>
        <p:spPr>
          <a:xfrm>
            <a:off x="3352680" y="4419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5"/>
          <p:cNvSpPr/>
          <p:nvPr/>
        </p:nvSpPr>
        <p:spPr>
          <a:xfrm>
            <a:off x="3048120" y="6019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6"/>
          <p:cNvSpPr/>
          <p:nvPr/>
        </p:nvSpPr>
        <p:spPr>
          <a:xfrm>
            <a:off x="604800" y="41911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7"/>
          <p:cNvSpPr/>
          <p:nvPr/>
        </p:nvSpPr>
        <p:spPr>
          <a:xfrm>
            <a:off x="3632400" y="63244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8"/>
          <p:cNvSpPr/>
          <p:nvPr/>
        </p:nvSpPr>
        <p:spPr>
          <a:xfrm>
            <a:off x="1882080" y="65818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EGD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9"/>
          <p:cNvSpPr/>
          <p:nvPr/>
        </p:nvSpPr>
        <p:spPr>
          <a:xfrm>
            <a:off x="2496240" y="6581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EGD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0"/>
          <p:cNvSpPr/>
          <p:nvPr/>
        </p:nvSpPr>
        <p:spPr>
          <a:xfrm>
            <a:off x="449640" y="51055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1"/>
          <p:cNvSpPr/>
          <p:nvPr/>
        </p:nvSpPr>
        <p:spPr>
          <a:xfrm>
            <a:off x="527400" y="54864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L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2"/>
          <p:cNvSpPr/>
          <p:nvPr/>
        </p:nvSpPr>
        <p:spPr>
          <a:xfrm>
            <a:off x="4038480" y="48769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*Fights inflation and unemployment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523880"/>
            <a:ext cx="72388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personal income tax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eople more willing to work since gov’t isn’t taking as much of their additional wag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roductivity up, costs down, profit up, AS up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duce taxes on income from sav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eople will save more, make more money available for loans, businesses can borrow to buy more tech. advanced capital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roduction up, costs down, profit up, AS up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duce capital gains tax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duces taxes on income from sale of asse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ives incentive to inves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duce corporate income tax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creases amount profit companies keep and can reinvest in capital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nding tax credits for research and develop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centive to increase use of technolog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066320" y="4191120"/>
            <a:ext cx="2592720" cy="2363760"/>
            <a:chOff x="1066320" y="4191120"/>
            <a:chExt cx="2592720" cy="2363760"/>
          </a:xfrm>
        </p:grpSpPr>
        <p:grpSp>
          <p:nvGrpSpPr>
            <p:cNvPr id="255" name="Group 15"/>
            <p:cNvGrpSpPr/>
            <p:nvPr/>
          </p:nvGrpSpPr>
          <p:grpSpPr>
            <a:xfrm>
              <a:off x="1066680" y="4191120"/>
              <a:ext cx="2592360" cy="2363760"/>
              <a:chOff x="1066680" y="4191120"/>
              <a:chExt cx="2592360" cy="2363760"/>
            </a:xfrm>
          </p:grpSpPr>
          <p:sp>
            <p:nvSpPr>
              <p:cNvPr id="256" name="Straight Connector 11"/>
              <p:cNvSpPr/>
              <p:nvPr/>
            </p:nvSpPr>
            <p:spPr>
              <a:xfrm flipH="1">
                <a:off x="1066680" y="4191120"/>
                <a:ext cx="1440" cy="236232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Straight Connector 12"/>
              <p:cNvSpPr/>
              <p:nvPr/>
            </p:nvSpPr>
            <p:spPr>
              <a:xfrm>
                <a:off x="1068120" y="6553440"/>
                <a:ext cx="2590920" cy="144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26"/>
            <p:cNvGrpSpPr/>
            <p:nvPr/>
          </p:nvGrpSpPr>
          <p:grpSpPr>
            <a:xfrm>
              <a:off x="1523160" y="4343400"/>
              <a:ext cx="1524600" cy="1905840"/>
              <a:chOff x="1523160" y="4343400"/>
              <a:chExt cx="1524600" cy="1905840"/>
            </a:xfrm>
          </p:grpSpPr>
          <p:sp>
            <p:nvSpPr>
              <p:cNvPr id="259" name="Straight Connector 9"/>
              <p:cNvSpPr/>
              <p:nvPr/>
            </p:nvSpPr>
            <p:spPr>
              <a:xfrm>
                <a:off x="1523160" y="4343400"/>
                <a:ext cx="1524600" cy="190584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Straight Connector 10"/>
              <p:cNvSpPr/>
              <p:nvPr/>
            </p:nvSpPr>
            <p:spPr>
              <a:xfrm flipH="1">
                <a:off x="1523880" y="4419360"/>
                <a:ext cx="1448640" cy="182988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Oval 6"/>
            <p:cNvSpPr/>
            <p:nvPr/>
          </p:nvSpPr>
          <p:spPr>
            <a:xfrm>
              <a:off x="2209680" y="5181840"/>
              <a:ext cx="152280" cy="152280"/>
            </a:xfrm>
            <a:prstGeom prst="ellipse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H="1">
              <a:off x="2286000" y="5335560"/>
              <a:ext cx="1440" cy="1219320"/>
            </a:xfrm>
            <a:prstGeom prst="line">
              <a:avLst/>
            </a:prstGeom>
            <a:ln w="11520">
              <a:solidFill>
                <a:srgbClr val="b83d68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 flipH="1" flipV="1">
              <a:off x="1066320" y="5257800"/>
              <a:ext cx="1143000" cy="1440"/>
            </a:xfrm>
            <a:prstGeom prst="line">
              <a:avLst/>
            </a:prstGeom>
            <a:ln w="11520">
              <a:solidFill>
                <a:srgbClr val="b83d68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Straight Connector 14"/>
          <p:cNvSpPr/>
          <p:nvPr/>
        </p:nvSpPr>
        <p:spPr>
          <a:xfrm>
            <a:off x="1981080" y="4191120"/>
            <a:ext cx="1447920" cy="182880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2743200" y="5105520"/>
            <a:ext cx="152280" cy="152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7"/>
          <p:cNvSpPr/>
          <p:nvPr/>
        </p:nvSpPr>
        <p:spPr>
          <a:xfrm flipH="1" flipV="1">
            <a:off x="1066320" y="5181120"/>
            <a:ext cx="1752840" cy="1800"/>
          </a:xfrm>
          <a:prstGeom prst="line">
            <a:avLst/>
          </a:prstGeom>
          <a:ln w="11520">
            <a:solidFill>
              <a:srgbClr val="b83d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9"/>
          <p:cNvSpPr/>
          <p:nvPr/>
        </p:nvSpPr>
        <p:spPr>
          <a:xfrm>
            <a:off x="2819520" y="5181480"/>
            <a:ext cx="2880" cy="1371600"/>
          </a:xfrm>
          <a:prstGeom prst="line">
            <a:avLst/>
          </a:prstGeom>
          <a:ln w="11520">
            <a:solidFill>
              <a:srgbClr val="b83d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3030120" y="60958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2958120" y="42670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3413520" y="58672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3"/>
          <p:cNvSpPr/>
          <p:nvPr/>
        </p:nvSpPr>
        <p:spPr>
          <a:xfrm>
            <a:off x="2570400" y="655020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GD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4"/>
          <p:cNvSpPr/>
          <p:nvPr/>
        </p:nvSpPr>
        <p:spPr>
          <a:xfrm>
            <a:off x="1725120" y="655020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GD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5"/>
          <p:cNvSpPr/>
          <p:nvPr/>
        </p:nvSpPr>
        <p:spPr>
          <a:xfrm>
            <a:off x="523080" y="5105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6"/>
          <p:cNvSpPr/>
          <p:nvPr/>
        </p:nvSpPr>
        <p:spPr>
          <a:xfrm>
            <a:off x="525240" y="48006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L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7"/>
          <p:cNvSpPr/>
          <p:nvPr/>
        </p:nvSpPr>
        <p:spPr>
          <a:xfrm>
            <a:off x="3352680" y="48006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*Successful supply-side tax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5"/>
          <p:cNvSpPr/>
          <p:nvPr/>
        </p:nvSpPr>
        <p:spPr>
          <a:xfrm flipH="1">
            <a:off x="1828800" y="4648320"/>
            <a:ext cx="1447920" cy="182880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ffectiveness of supply-side policy depends on which types of taxes are cu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ly-side tax cuts have their primary impact on AD rather than AS in the short ru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ly-side tax cuts are likely to widen income inequalit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ly-side tax cuts are almost certain to lead to bigger budget defici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ly-side tax cuts should be seen as a way to promote long-term ec. grow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ultipliers used to determine the appropriate fiscal polic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LANNING FISCAL POLICY IS LIKE SHOOTING THROUGH A DENSE FOG AT A ERRATICALLY MOVING TARGET WITH AN INACCURATE GUN AND SLOW-MOVING BULLE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pansionary FP: cut taxes, increase transfers, increase 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ractionary FP: increase taxes, decrease transfers, decrease 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berals: US’s needs include better schools, healthcare, diminishing poverty, environment, infrastructure, etc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or EFP: increase G. For CFP: increase tax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ervatives: Gov’t limits daily lives and circumscribes our freed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or EFP: cut taxes. For CFP: decrease G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59:14Z</dcterms:created>
  <dc:creator>Maggio.V553</dc:creator>
  <dc:description/>
  <dc:language>en-US</dc:language>
  <cp:lastModifiedBy>HP Authorized Customer</cp:lastModifiedBy>
  <dcterms:modified xsi:type="dcterms:W3CDTF">2009-01-27T22:07:00Z</dcterms:modified>
  <cp:revision>8</cp:revision>
  <dc:subject/>
  <dc:title>Unit 6 Chapter 29</dc:title>
</cp:coreProperties>
</file>